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10691813"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85" name="PlaceHolder 3"/>
          <p:cNvSpPr>
            <a:spLocks noGrp="1"/>
          </p:cNvSpPr>
          <p:nvPr>
            <p:ph type="sldImg"/>
          </p:nvPr>
        </p:nvSpPr>
        <p:spPr>
          <a:xfrm>
            <a:off x="1006200" y="685440"/>
            <a:ext cx="484956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move the slide</a:t>
            </a:r>
            <a:endParaRPr b="0" lang="en-US" sz="4800" spc="-1" strike="noStrike">
              <a:solidFill>
                <a:srgbClr val="000000"/>
              </a:solidFill>
              <a:latin typeface="Times New Roman"/>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9E4C6-377A-481E-9CCD-2AE89A319063}" type="slidenum">
              <a:rPr b="0" lang="ru-RU"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006560" y="685800"/>
            <a:ext cx="484956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2159-994E-47C7-AEA4-685D2610061C}" type="slidenum">
              <a:rPr b="0" lang="ru-RU" sz="1200" spc="-1" strike="noStrike">
                <a:solidFill>
                  <a:srgbClr val="000000"/>
                </a:solidFill>
                <a:latin typeface="Times New Roman"/>
                <a:ea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8B0626-9D03-416E-8117-89AB0DECB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8" name="PlaceHolder 2"/>
          <p:cNvSpPr>
            <a:spLocks noGrp="1"/>
          </p:cNvSpPr>
          <p:nvPr>
            <p:ph/>
          </p:nvPr>
        </p:nvSpPr>
        <p:spPr>
          <a:xfrm>
            <a:off x="534960" y="176364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9" name="PlaceHolder 3"/>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C443-514E-4AC0-B7CD-1C05EB17B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1"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2"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3"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4" name="PlaceHolder 5"/>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9A268-6319-4CD1-8FCF-6E3120D1C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6" name="PlaceHolder 2"/>
          <p:cNvSpPr>
            <a:spLocks noGrp="1"/>
          </p:cNvSpPr>
          <p:nvPr>
            <p:ph/>
          </p:nvPr>
        </p:nvSpPr>
        <p:spPr>
          <a:xfrm>
            <a:off x="53496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7" name="PlaceHolder 3"/>
          <p:cNvSpPr>
            <a:spLocks noGrp="1"/>
          </p:cNvSpPr>
          <p:nvPr>
            <p:ph/>
          </p:nvPr>
        </p:nvSpPr>
        <p:spPr>
          <a:xfrm>
            <a:off x="378864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8" name="PlaceHolder 4"/>
          <p:cNvSpPr>
            <a:spLocks noGrp="1"/>
          </p:cNvSpPr>
          <p:nvPr>
            <p:ph/>
          </p:nvPr>
        </p:nvSpPr>
        <p:spPr>
          <a:xfrm>
            <a:off x="704268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9" name="PlaceHolder 5"/>
          <p:cNvSpPr>
            <a:spLocks noGrp="1"/>
          </p:cNvSpPr>
          <p:nvPr>
            <p:ph/>
          </p:nvPr>
        </p:nvSpPr>
        <p:spPr>
          <a:xfrm>
            <a:off x="53496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0" name="PlaceHolder 6"/>
          <p:cNvSpPr>
            <a:spLocks noGrp="1"/>
          </p:cNvSpPr>
          <p:nvPr>
            <p:ph/>
          </p:nvPr>
        </p:nvSpPr>
        <p:spPr>
          <a:xfrm>
            <a:off x="378864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1" name="PlaceHolder 7"/>
          <p:cNvSpPr>
            <a:spLocks noGrp="1"/>
          </p:cNvSpPr>
          <p:nvPr>
            <p:ph/>
          </p:nvPr>
        </p:nvSpPr>
        <p:spPr>
          <a:xfrm>
            <a:off x="704268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78043-4EFF-45AE-8646-D2B740757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47"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49" name="PlaceHolder 2"/>
          <p:cNvSpPr>
            <a:spLocks noGrp="1"/>
          </p:cNvSpPr>
          <p:nvPr>
            <p:ph/>
          </p:nvPr>
        </p:nvSpPr>
        <p:spPr>
          <a:xfrm>
            <a:off x="534960" y="1763640"/>
            <a:ext cx="962352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51"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2"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56"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7"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8"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876"/>
              </a:spcBef>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757A9-C901-49F5-A307-B14CC29DF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0"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1"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2" name="PlaceHolder 4"/>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4"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5"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6" name="PlaceHolder 4"/>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68" name="PlaceHolder 2"/>
          <p:cNvSpPr>
            <a:spLocks noGrp="1"/>
          </p:cNvSpPr>
          <p:nvPr>
            <p:ph/>
          </p:nvPr>
        </p:nvSpPr>
        <p:spPr>
          <a:xfrm>
            <a:off x="534960" y="176364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9" name="PlaceHolder 3"/>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1"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2"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3"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4" name="PlaceHolder 5"/>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76" name="PlaceHolder 2"/>
          <p:cNvSpPr>
            <a:spLocks noGrp="1"/>
          </p:cNvSpPr>
          <p:nvPr>
            <p:ph/>
          </p:nvPr>
        </p:nvSpPr>
        <p:spPr>
          <a:xfrm>
            <a:off x="53496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7" name="PlaceHolder 3"/>
          <p:cNvSpPr>
            <a:spLocks noGrp="1"/>
          </p:cNvSpPr>
          <p:nvPr>
            <p:ph/>
          </p:nvPr>
        </p:nvSpPr>
        <p:spPr>
          <a:xfrm>
            <a:off x="378864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8" name="PlaceHolder 4"/>
          <p:cNvSpPr>
            <a:spLocks noGrp="1"/>
          </p:cNvSpPr>
          <p:nvPr>
            <p:ph/>
          </p:nvPr>
        </p:nvSpPr>
        <p:spPr>
          <a:xfrm>
            <a:off x="7042680" y="176364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79" name="PlaceHolder 5"/>
          <p:cNvSpPr>
            <a:spLocks noGrp="1"/>
          </p:cNvSpPr>
          <p:nvPr>
            <p:ph/>
          </p:nvPr>
        </p:nvSpPr>
        <p:spPr>
          <a:xfrm>
            <a:off x="53496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80" name="PlaceHolder 6"/>
          <p:cNvSpPr>
            <a:spLocks noGrp="1"/>
          </p:cNvSpPr>
          <p:nvPr>
            <p:ph/>
          </p:nvPr>
        </p:nvSpPr>
        <p:spPr>
          <a:xfrm>
            <a:off x="378864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81" name="PlaceHolder 7"/>
          <p:cNvSpPr>
            <a:spLocks noGrp="1"/>
          </p:cNvSpPr>
          <p:nvPr>
            <p:ph/>
          </p:nvPr>
        </p:nvSpPr>
        <p:spPr>
          <a:xfrm>
            <a:off x="7042680" y="4370760"/>
            <a:ext cx="3098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9" name="PlaceHolder 2"/>
          <p:cNvSpPr>
            <a:spLocks noGrp="1"/>
          </p:cNvSpPr>
          <p:nvPr>
            <p:ph/>
          </p:nvPr>
        </p:nvSpPr>
        <p:spPr>
          <a:xfrm>
            <a:off x="534960" y="1763640"/>
            <a:ext cx="962352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648CC-CD55-4B51-BE68-030B124BC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1"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2"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D4C21-8F67-44A6-AEFC-52F22E8DE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906CB-68AE-47C0-9959-060CBA818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876"/>
              </a:spcBef>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E2A4F-8C75-4C0F-9415-A517E2AB7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16"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7" name="PlaceHolder 3"/>
          <p:cNvSpPr>
            <a:spLocks noGrp="1"/>
          </p:cNvSpPr>
          <p:nvPr>
            <p:ph/>
          </p:nvPr>
        </p:nvSpPr>
        <p:spPr>
          <a:xfrm>
            <a:off x="546624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18" name="PlaceHolder 4"/>
          <p:cNvSpPr>
            <a:spLocks noGrp="1"/>
          </p:cNvSpPr>
          <p:nvPr>
            <p:ph/>
          </p:nvPr>
        </p:nvSpPr>
        <p:spPr>
          <a:xfrm>
            <a:off x="53496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51CF-BE22-4B69-8506-631D511DA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0" name="PlaceHolder 2"/>
          <p:cNvSpPr>
            <a:spLocks noGrp="1"/>
          </p:cNvSpPr>
          <p:nvPr>
            <p:ph/>
          </p:nvPr>
        </p:nvSpPr>
        <p:spPr>
          <a:xfrm>
            <a:off x="534960" y="1763640"/>
            <a:ext cx="4696200" cy="499104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1"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2" name="PlaceHolder 4"/>
          <p:cNvSpPr>
            <a:spLocks noGrp="1"/>
          </p:cNvSpPr>
          <p:nvPr>
            <p:ph/>
          </p:nvPr>
        </p:nvSpPr>
        <p:spPr>
          <a:xfrm>
            <a:off x="5466240" y="437076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F8FBC-2DCA-467D-A1C1-85C9FA499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4800" spc="-1" strike="noStrike">
              <a:solidFill>
                <a:srgbClr val="000000"/>
              </a:solidFill>
              <a:latin typeface="Times New Roman"/>
            </a:endParaRPr>
          </a:p>
        </p:txBody>
      </p:sp>
      <p:sp>
        <p:nvSpPr>
          <p:cNvPr id="24" name="PlaceHolder 2"/>
          <p:cNvSpPr>
            <a:spLocks noGrp="1"/>
          </p:cNvSpPr>
          <p:nvPr>
            <p:ph/>
          </p:nvPr>
        </p:nvSpPr>
        <p:spPr>
          <a:xfrm>
            <a:off x="53496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5" name="PlaceHolder 3"/>
          <p:cNvSpPr>
            <a:spLocks noGrp="1"/>
          </p:cNvSpPr>
          <p:nvPr>
            <p:ph/>
          </p:nvPr>
        </p:nvSpPr>
        <p:spPr>
          <a:xfrm>
            <a:off x="5466240" y="1763640"/>
            <a:ext cx="469620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26" name="PlaceHolder 4"/>
          <p:cNvSpPr>
            <a:spLocks noGrp="1"/>
          </p:cNvSpPr>
          <p:nvPr>
            <p:ph/>
          </p:nvPr>
        </p:nvSpPr>
        <p:spPr>
          <a:xfrm>
            <a:off x="534960" y="4370760"/>
            <a:ext cx="9623520" cy="2380680"/>
          </a:xfrm>
          <a:prstGeom prst="rect">
            <a:avLst/>
          </a:prstGeom>
          <a:noFill/>
          <a:ln w="0">
            <a:noFill/>
          </a:ln>
        </p:spPr>
        <p:txBody>
          <a:bodyPr lIns="99720" rIns="99720" tIns="49680" bIns="49680" anchor="t">
            <a:normAutofit/>
          </a:bodyPr>
          <a:p>
            <a:pPr indent="0">
              <a:spcBef>
                <a:spcPts val="876"/>
              </a:spcBef>
              <a:buNone/>
              <a:tabLst>
                <a:tab algn="l" pos="995400"/>
                <a:tab algn="l" pos="1990800"/>
                <a:tab algn="l" pos="2986200"/>
                <a:tab algn="l" pos="3981600"/>
                <a:tab algn="l" pos="4976640"/>
                <a:tab algn="l" pos="5972040"/>
                <a:tab algn="l" pos="6967440"/>
                <a:tab algn="l" pos="7962840"/>
                <a:tab algn="l" pos="8958240"/>
                <a:tab algn="l" pos="9953640"/>
                <a:tab algn="l" pos="1094904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79A56D-9C8D-4094-BBD1-09C0E1522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подложка общая"/>
          <p:cNvPicPr/>
          <p:nvPr/>
        </p:nvPicPr>
        <p:blipFill>
          <a:blip r:embed="rId2"/>
          <a:stretch/>
        </p:blipFill>
        <p:spPr>
          <a:xfrm>
            <a:off x="0" y="0"/>
            <a:ext cx="10696680" cy="7562880"/>
          </a:xfrm>
          <a:prstGeom prst="rect">
            <a:avLst/>
          </a:prstGeom>
          <a:ln w="0">
            <a:noFill/>
          </a:ln>
        </p:spPr>
      </p:pic>
      <p:sp>
        <p:nvSpPr>
          <p:cNvPr id="1"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2" name="PlaceHolder 2"/>
          <p:cNvSpPr>
            <a:spLocks noGrp="1"/>
          </p:cNvSpPr>
          <p:nvPr>
            <p:ph type="body"/>
          </p:nvPr>
        </p:nvSpPr>
        <p:spPr>
          <a:xfrm>
            <a:off x="534960" y="1763640"/>
            <a:ext cx="9623520" cy="4991040"/>
          </a:xfrm>
          <a:prstGeom prst="rect">
            <a:avLst/>
          </a:prstGeom>
          <a:noFill/>
          <a:ln w="0">
            <a:noFill/>
          </a:ln>
        </p:spPr>
        <p:txBody>
          <a:bodyPr lIns="99720" rIns="99720" tIns="49680" bIns="49680" anchor="t">
            <a:norm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809640" indent="-31104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445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7431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3" name="PlaceHolder 3"/>
          <p:cNvSpPr>
            <a:spLocks noGrp="1"/>
          </p:cNvSpPr>
          <p:nvPr>
            <p:ph type="dt" idx="1"/>
          </p:nvPr>
        </p:nvSpPr>
        <p:spPr>
          <a:xfrm>
            <a:off x="534960" y="6885000"/>
            <a:ext cx="2495520" cy="525600"/>
          </a:xfrm>
          <a:prstGeom prst="rect">
            <a:avLst/>
          </a:prstGeom>
          <a:noFill/>
          <a:ln w="0">
            <a:noFill/>
          </a:ln>
        </p:spPr>
        <p:txBody>
          <a:bodyPr lIns="99720" rIns="99720" tIns="49680" bIns="496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52099-08F0-464C-AE72-C283C58B773E}" type="datetime">
              <a:rPr b="0" lang="ru-RU" sz="1500" spc="-1" strike="noStrike">
                <a:solidFill>
                  <a:srgbClr val="000000"/>
                </a:solidFill>
                <a:latin typeface="Times New Roman"/>
              </a:rPr>
              <a:t>28.07.26</a:t>
            </a:fld>
            <a:endParaRPr b="1" lang="en-US" sz="1500" spc="-1" strike="noStrike">
              <a:solidFill>
                <a:srgbClr val="000000"/>
              </a:solidFill>
              <a:latin typeface="Times New Roman"/>
            </a:endParaRPr>
          </a:p>
        </p:txBody>
      </p:sp>
      <p:sp>
        <p:nvSpPr>
          <p:cNvPr id="4" name="PlaceHolder 4"/>
          <p:cNvSpPr>
            <a:spLocks noGrp="1"/>
          </p:cNvSpPr>
          <p:nvPr>
            <p:ph type="ftr" idx="2"/>
          </p:nvPr>
        </p:nvSpPr>
        <p:spPr>
          <a:xfrm>
            <a:off x="3652920" y="6885000"/>
            <a:ext cx="3387600" cy="525600"/>
          </a:xfrm>
          <a:prstGeom prst="rect">
            <a:avLst/>
          </a:prstGeom>
          <a:noFill/>
          <a:ln w="0">
            <a:noFill/>
          </a:ln>
        </p:spPr>
        <p:txBody>
          <a:bodyPr lIns="99720" rIns="9972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5" name="PlaceHolder 5"/>
          <p:cNvSpPr>
            <a:spLocks noGrp="1"/>
          </p:cNvSpPr>
          <p:nvPr>
            <p:ph type="sldNum" idx="3"/>
          </p:nvPr>
        </p:nvSpPr>
        <p:spPr>
          <a:xfrm>
            <a:off x="7662960" y="6885000"/>
            <a:ext cx="2495520" cy="525600"/>
          </a:xfrm>
          <a:prstGeom prst="rect">
            <a:avLst/>
          </a:prstGeom>
          <a:noFill/>
          <a:ln w="0">
            <a:noFill/>
          </a:ln>
        </p:spPr>
        <p:txBody>
          <a:bodyPr lIns="99720" rIns="99720" tIns="49680" bIns="496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A8F1-37DF-46A4-8D84-CB6802CAA8F4}"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534960" y="303120"/>
            <a:ext cx="9623520" cy="1260720"/>
          </a:xfrm>
          <a:prstGeom prst="rect">
            <a:avLst/>
          </a:prstGeom>
          <a:noFill/>
          <a:ln w="0">
            <a:noFill/>
          </a:ln>
        </p:spPr>
        <p:style>
          <a:lnRef idx="0"/>
          <a:fillRef idx="0"/>
          <a:effectRef idx="0"/>
          <a:fontRef idx="minor"/>
        </p:style>
        <p:txBody>
          <a:bodyPr lIns="99720" rIns="99720" tIns="49680" bIns="49680" anchor="ctr">
            <a:noAutofit/>
          </a:bodyPr>
          <a:p>
            <a:pPr algn="ctr">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2000" spc="-1" strike="noStrike">
              <a:solidFill>
                <a:srgbClr val="000000"/>
              </a:solidFill>
              <a:latin typeface="Times New Roman"/>
            </a:endParaRPr>
          </a:p>
        </p:txBody>
      </p:sp>
      <p:sp>
        <p:nvSpPr>
          <p:cNvPr id="43" name="Rectangle 3"/>
          <p:cNvSpPr/>
          <p:nvPr/>
        </p:nvSpPr>
        <p:spPr>
          <a:xfrm>
            <a:off x="534960" y="1763640"/>
            <a:ext cx="9623520" cy="4991040"/>
          </a:xfrm>
          <a:prstGeom prst="rect">
            <a:avLst/>
          </a:prstGeom>
          <a:noFill/>
          <a:ln w="0">
            <a:noFill/>
          </a:ln>
        </p:spPr>
        <p:style>
          <a:lnRef idx="0"/>
          <a:fillRef idx="0"/>
          <a:effectRef idx="0"/>
          <a:fontRef idx="minor"/>
        </p:style>
        <p:txBody>
          <a:bodyPr lIns="99720" rIns="99720" tIns="49680" bIns="49680" anchor="t">
            <a:no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endParaRPr b="1" lang="en-US" sz="2000" spc="-1" strike="noStrike">
              <a:solidFill>
                <a:srgbClr val="000000"/>
              </a:solidFill>
              <a:latin typeface="Times New Roman"/>
            </a:endParaRPr>
          </a:p>
        </p:txBody>
      </p:sp>
      <p:sp>
        <p:nvSpPr>
          <p:cNvPr id="44" name="PlaceHolder 1"/>
          <p:cNvSpPr>
            <a:spLocks noGrp="1"/>
          </p:cNvSpPr>
          <p:nvPr>
            <p:ph type="title"/>
          </p:nvPr>
        </p:nvSpPr>
        <p:spPr>
          <a:xfrm>
            <a:off x="534960" y="303120"/>
            <a:ext cx="9623520" cy="1260720"/>
          </a:xfrm>
          <a:prstGeom prst="rect">
            <a:avLst/>
          </a:prstGeom>
          <a:noFill/>
          <a:ln w="0">
            <a:noFill/>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0" lang="en-US" sz="4800" spc="-1" strike="noStrike">
                <a:solidFill>
                  <a:srgbClr val="000000"/>
                </a:solidFill>
                <a:latin typeface="Times New Roman"/>
              </a:rPr>
              <a:t>Click to edit the title text format</a:t>
            </a:r>
            <a:endParaRPr b="0" lang="en-US" sz="4800" spc="-1" strike="noStrike">
              <a:solidFill>
                <a:srgbClr val="000000"/>
              </a:solidFill>
              <a:latin typeface="Times New Roman"/>
            </a:endParaRPr>
          </a:p>
        </p:txBody>
      </p:sp>
      <p:sp>
        <p:nvSpPr>
          <p:cNvPr id="45" name="PlaceHolder 2"/>
          <p:cNvSpPr>
            <a:spLocks noGrp="1"/>
          </p:cNvSpPr>
          <p:nvPr>
            <p:ph type="body"/>
          </p:nvPr>
        </p:nvSpPr>
        <p:spPr>
          <a:xfrm>
            <a:off x="534960" y="1763640"/>
            <a:ext cx="9623520" cy="4991040"/>
          </a:xfrm>
          <a:prstGeom prst="rect">
            <a:avLst/>
          </a:prstGeom>
          <a:noFill/>
          <a:ln w="0">
            <a:noFill/>
          </a:ln>
        </p:spPr>
        <p:txBody>
          <a:bodyPr lIns="99720" rIns="99720" tIns="49680" bIns="49680" anchor="t">
            <a:normAutofit/>
          </a:bodyPr>
          <a:p>
            <a:pPr marL="372960" indent="-37296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809640" indent="-31104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445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7431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239920" indent="-249120">
              <a:spcBef>
                <a:spcPts val="876"/>
              </a:spcBef>
              <a:buClr>
                <a:srgbClr val="000000"/>
              </a:buClr>
              <a:buFont typeface="Times New Roman"/>
              <a:buChar char="»"/>
              <a:tabLst>
                <a:tab algn="l" pos="995400"/>
                <a:tab algn="l" pos="1990800"/>
                <a:tab algn="l" pos="2986200"/>
                <a:tab algn="l" pos="3981600"/>
                <a:tab algn="l" pos="4976640"/>
                <a:tab algn="l" pos="5972040"/>
                <a:tab algn="l" pos="6967440"/>
                <a:tab algn="l" pos="7962840"/>
                <a:tab algn="l" pos="8958240"/>
                <a:tab algn="l" pos="9953640"/>
                <a:tab algn="l" pos="1094904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36" descr=""/>
          <p:cNvPicPr/>
          <p:nvPr/>
        </p:nvPicPr>
        <p:blipFill>
          <a:blip r:embed="rId1"/>
          <a:stretch/>
        </p:blipFill>
        <p:spPr>
          <a:xfrm>
            <a:off x="0" y="0"/>
            <a:ext cx="10693440" cy="7547040"/>
          </a:xfrm>
          <a:prstGeom prst="rect">
            <a:avLst/>
          </a:prstGeom>
          <a:ln w="0">
            <a:noFill/>
          </a:ln>
        </p:spPr>
      </p:pic>
      <p:sp>
        <p:nvSpPr>
          <p:cNvPr id="90"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7E4A-BF3F-43B7-991D-C24732182565}"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91"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4DB62-CFFC-413A-886A-E3D6E4938BFB}"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92"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924AA-F1D5-4494-86F3-FE640707562B}"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93" name="Text Box 39"/>
          <p:cNvSpPr/>
          <p:nvPr/>
        </p:nvSpPr>
        <p:spPr>
          <a:xfrm>
            <a:off x="2322360" y="1697040"/>
            <a:ext cx="8167680" cy="7149960"/>
          </a:xfrm>
          <a:prstGeom prst="rect">
            <a:avLst/>
          </a:prstGeom>
          <a:noFill/>
          <a:ln w="0">
            <a:noFill/>
          </a:ln>
        </p:spPr>
        <p:style>
          <a:lnRef idx="0"/>
          <a:fillRef idx="0"/>
          <a:effectRef idx="0"/>
          <a:fontRef idx="minor"/>
        </p:style>
        <p:txBody>
          <a:bodyPr lIns="90000" rIns="90000" tIns="46800" bIns="46800" anchor="t">
            <a:spAutoFit/>
          </a:bodyPr>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едеральное  государственное  унитарное предприятие </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ВСЕРОССИЙСКИЙ НАУЧНО-ИССЛЕДОВАТЕЛЬСКИЙ ИНСТИТУТ</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ИЗИКО-ТЕХНИЧЕСКИХ И РАДИОТЕХНИЧЕСКИХ ИЗМЕРЕНИЙ»</a:t>
            </a:r>
            <a:endParaRPr b="1" lang="en-US" sz="1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a:solidFill>
                  <a:srgbClr val="000000"/>
                </a:solidFill>
                <a:latin typeface="Times New Roman"/>
                <a:ea typeface="Times New Roman"/>
              </a:rPr>
              <a:t>(ФГУП «ВНИИФТРИ»)</a:t>
            </a:r>
            <a:endParaRPr b="1"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e1e20"/>
                </a:solidFill>
                <a:latin typeface="Times New Roman"/>
                <a:ea typeface="Times New Roman"/>
              </a:rPr>
              <a:t> </a:t>
            </a:r>
            <a:r>
              <a:rPr b="1" lang="ru-RU" sz="2800" spc="-1" strike="noStrike">
                <a:solidFill>
                  <a:srgbClr val="000000"/>
                </a:solidFill>
                <a:latin typeface="Times New Roman"/>
                <a:ea typeface="Times New Roman"/>
              </a:rPr>
              <a:t>Пересмотр    РМГ 91- 2009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000000"/>
                </a:solidFill>
                <a:latin typeface="Times New Roman"/>
                <a:ea typeface="Times New Roman"/>
              </a:rPr>
              <a:t>«Государственная система обеспечения единства измерений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ea typeface="Times New Roman"/>
              </a:rPr>
              <a:t>Использование понятий «погрешность измерения» и «неопределенность измерения». </a:t>
            </a:r>
            <a:endParaRPr b="1"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800" spc="-1" strike="noStrike">
                <a:solidFill>
                  <a:srgbClr val="000000"/>
                </a:solidFill>
                <a:latin typeface="Times New Roman"/>
                <a:ea typeface="Times New Roman"/>
              </a:rPr>
              <a:t>Общие принципы»</a:t>
            </a:r>
            <a:endParaRPr b="1" lang="en-US" sz="2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00000"/>
                </a:solidFill>
                <a:latin typeface="Times New Roman"/>
                <a:ea typeface="Times New Roman"/>
              </a:rPr>
              <a:t>А.С.Дойников</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00000"/>
                </a:solidFill>
                <a:latin typeface="Times New Roman"/>
                <a:ea typeface="Times New Roman"/>
              </a:rPr>
              <a:t>Д.т.н., Главный метролог ФГУП «ВНИИФТРИ</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8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С.В. Алёхин</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Старший научный сотрудник ФГУП «ВНИИФТРИ»</a:t>
            </a: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2400" spc="-1" strike="noStrike">
                <a:solidFill>
                  <a:srgbClr val="0e1e20"/>
                </a:solidFill>
                <a:latin typeface="Times New Roman"/>
                <a:ea typeface="Times New Roman"/>
              </a:rPr>
              <a:t>» </a:t>
            </a:r>
            <a:endParaRPr b="1" lang="en-US" sz="2400" spc="-1" strike="noStrike">
              <a:solidFill>
                <a:srgbClr val="000000"/>
              </a:solidFill>
              <a:latin typeface="Times New Roman"/>
            </a:endParaRPr>
          </a:p>
          <a:p>
            <a:pPr algn="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2400" spc="-1" strike="noStrike">
              <a:solidFill>
                <a:srgbClr val="000000"/>
              </a:solidFill>
              <a:latin typeface="Times New Roman"/>
            </a:endParaRPr>
          </a:p>
        </p:txBody>
      </p:sp>
      <p:sp>
        <p:nvSpPr>
          <p:cNvPr id="94" name="Text Box 40"/>
          <p:cNvSpPr/>
          <p:nvPr/>
        </p:nvSpPr>
        <p:spPr>
          <a:xfrm>
            <a:off x="488880" y="531720"/>
            <a:ext cx="971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1e4649"/>
                </a:solidFill>
                <a:latin typeface="Times New Roman"/>
              </a:rPr>
              <a:t>  </a:t>
            </a:r>
            <a:r>
              <a:rPr b="1" lang="ru-RU" sz="1800" spc="-1" strike="noStrike">
                <a:solidFill>
                  <a:srgbClr val="000000"/>
                </a:solidFill>
                <a:latin typeface="Times New Roman"/>
              </a:rPr>
              <a:t>Министерство промышленности и торговли Российской Федерации</a:t>
            </a:r>
            <a:endParaRPr b="1" lang="en-US" sz="1800" spc="-1" strike="noStrike">
              <a:solidFill>
                <a:srgbClr val="000000"/>
              </a:solidFill>
              <a:latin typeface="Times New Roman"/>
            </a:endParaRPr>
          </a:p>
        </p:txBody>
      </p:sp>
      <p:sp>
        <p:nvSpPr>
          <p:cNvPr id="95" name="Text Box 41"/>
          <p:cNvSpPr/>
          <p:nvPr/>
        </p:nvSpPr>
        <p:spPr>
          <a:xfrm>
            <a:off x="488880" y="961920"/>
            <a:ext cx="9715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Федеральное агентство по техническому регулированию метрологии</a:t>
            </a:r>
            <a:endParaRPr b="1" lang="en-US" sz="1800" spc="-1" strike="noStrike">
              <a:solidFill>
                <a:srgbClr val="000000"/>
              </a:solidFill>
              <a:latin typeface="Times New Roman"/>
            </a:endParaRPr>
          </a:p>
        </p:txBody>
      </p:sp>
      <p:pic>
        <p:nvPicPr>
          <p:cNvPr id="96" name="Picture 7" descr="\\192.168.10.220\upload\ДАША И КО\Презентация ГНЦ\Модуль+12212222...png"/>
          <p:cNvPicPr/>
          <p:nvPr/>
        </p:nvPicPr>
        <p:blipFill>
          <a:blip r:embed="rId2"/>
          <a:srcRect l="0" t="0" r="65592" b="0"/>
          <a:stretch/>
        </p:blipFill>
        <p:spPr>
          <a:xfrm>
            <a:off x="9307440" y="252360"/>
            <a:ext cx="1152720" cy="1023840"/>
          </a:xfrm>
          <a:prstGeom prst="rect">
            <a:avLst/>
          </a:prstGeom>
          <a:ln w="0">
            <a:noFill/>
          </a:ln>
        </p:spPr>
      </p:pic>
      <p:sp>
        <p:nvSpPr>
          <p:cNvPr id="97" name="TextBox 8"/>
          <p:cNvSpPr/>
          <p:nvPr/>
        </p:nvSpPr>
        <p:spPr>
          <a:xfrm>
            <a:off x="6877080" y="1405080"/>
            <a:ext cx="372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Государственный научный центр</a:t>
            </a:r>
            <a:endParaRPr b="1"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9FF7-7AC6-4934-93BE-E815C0F73552}"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8" name=""/>
          <p:cNvGraphicFramePr/>
          <p:nvPr/>
        </p:nvGraphicFramePr>
        <p:xfrm>
          <a:off x="90360" y="160200"/>
          <a:ext cx="10531440" cy="6778800"/>
        </p:xfrm>
        <a:graphic>
          <a:graphicData uri="http://schemas.openxmlformats.org/drawingml/2006/table">
            <a:tbl>
              <a:tblPr/>
              <a:tblGrid>
                <a:gridCol w="1185840"/>
                <a:gridCol w="1187640"/>
                <a:gridCol w="5403960"/>
                <a:gridCol w="2754000"/>
              </a:tblGrid>
              <a:tr h="74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7435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комментарии к п. 4.4 сказано, что доверительные границы погрешности могут откладываться от результата измерений, а в соответствии с Примечанием 2 п. 4.1 результат измерения может быть представлен с указанием доверительных границ, т. е. получается, что от результата измерения, который и так уже включает в себя доверительные границы, могут откладываться еще одни доверительные границы</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комментарии к статье 4.5 (бывшая статья 4.4 в первой редакции) фраза «откладываемые от результата измерений» заменена на «откладываемые от измеренного значения»</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29220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 4.5:</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r>
                        <a:rPr b="1" lang="ru-RU" sz="1800" spc="-1" strike="noStrike">
                          <a:solidFill>
                            <a:srgbClr val="000000"/>
                          </a:solidFill>
                          <a:latin typeface="Times New Roman"/>
                        </a:rPr>
                        <a:t>- уточнить, приведено следующее определение «неопределенность (измерений) - неотрицательный параметр, характеризующий рассеяние значений величины, приписываемых измеряемой величине на основании измерительной информации», а в VIM3 (п. 2.26) сказано, что «неопределенность измерений - неотрицательный параметр, характеризующий рассеяние значений величины, приписываемых измеряемой величине на основании используемой информации». По нашему мнению, это очень существенное отличие, так как оценивание неопределенности действительно основано не только на измерительной информации;</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Дополнительно введен комментарий к статье 4.6 (бывшая статья 4.5 в первой редакции), в котором приведено определение термина «неопределенность измерений» в соответствии с VIM3</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  </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C02A-C4BB-46F6-998A-8674C875FC28}"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0" name=""/>
          <p:cNvGraphicFramePr/>
          <p:nvPr/>
        </p:nvGraphicFramePr>
        <p:xfrm>
          <a:off x="90360" y="160200"/>
          <a:ext cx="10531440" cy="6566040"/>
        </p:xfrm>
        <a:graphic>
          <a:graphicData uri="http://schemas.openxmlformats.org/drawingml/2006/table">
            <a:tbl>
              <a:tblPr/>
              <a:tblGrid>
                <a:gridCol w="1185840"/>
                <a:gridCol w="1187640"/>
                <a:gridCol w="4106880"/>
                <a:gridCol w="405108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761080">
                <a:tc gridSpan="3">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 4.5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ретий абзац уточнить, считаем, что фраза «расширенная неопределенность определяет интервал охвата, основанный на имеющейся информации, который содержит совокупность истинных значений измеряемой величины с заданной вероятностью» не соответствует ни GUM, ни VIM3, так как в GUM вообще не используется термин «интервал охвата». В VIM3 (примечании 3 к п. 2.36) сказано, что «интервал охвата может быть выведен из расширенной неопределенности измерений», что означает также, что он может быть получен и другими способами, а не только с помощью расширенной неопределенности. На основании сказанного рекомендуем в проекте РМГ привести термины с соответствующими определениями для следующих понятий «стандартная неопределенность», «расширенная неопределенность», «интервал охва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Times New Roman"/>
                        </a:rPr>
                        <a:t>Принято.</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кст проекта РМГ дополнен терминологическими статьями: </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7 «стандартная неопределенность (измерений)», 4.8 «суммарная стандартная неопределенность (измерений)», 4.9 «расширенная неопределенность (измерений)» и 4.10 «интервал охвата».</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Фраза «расширенная неопределенность определяет интервал охвата, основанный на имеющейся информации, который содержит совокупность истинных значений измеряемой величины с заданной вероятностью» заменена на фразу: «Из расширенной неопределенности измерений может быть получен интервал охвата» (комментарий к статье 4.9)</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BA2A-B13D-485F-955E-A15A7EEA6760}"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2" name=""/>
          <p:cNvGraphicFramePr/>
          <p:nvPr/>
        </p:nvGraphicFramePr>
        <p:xfrm>
          <a:off x="71280" y="407880"/>
          <a:ext cx="10531800" cy="6656400"/>
        </p:xfrm>
        <a:graphic>
          <a:graphicData uri="http://schemas.openxmlformats.org/drawingml/2006/table">
            <a:tbl>
              <a:tblPr/>
              <a:tblGrid>
                <a:gridCol w="1098720"/>
                <a:gridCol w="1297080"/>
                <a:gridCol w="4392360"/>
                <a:gridCol w="374364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51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привести в соответствие наименования пунктов и содержание раздела 5 и Приложения А.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ряде случаев имеются явные противоречия, в частност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5.1.1, в соответствии с пунктом не рекомендуется использовать понятия «погрешность результата измерения» при получении результатов измерений в соответствии с методиками выполнения измерений. </a:t>
                      </a: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 к сведению.</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ольшинство метрологических ситуаций» не значит «все метрологические ситуации». Кроме выполнения измерений по методикам измерений, когда опорное значение отсутствует (п. 6.1.1 (бывший пункт 5.1.1 в первой редакции)), существуют другие метрологические процедуры, описанные в подразделе 6.1 (бывший подраздел 5.1), в ходе выполнения которых, при наличии опорного значения величины, может быть оценена (систематическая) погрешность (результата измерения). Полученная при этом оценка систематической погрешности может быть использована для введения поправки, после чего результат измерения будет представлен  «исправленным» измеренным значением и неопределенностью измерений, связанной с поправкой.</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D38C-E9EB-4640-9671-003EDEE54797}"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4" name=""/>
          <p:cNvGraphicFramePr/>
          <p:nvPr/>
        </p:nvGraphicFramePr>
        <p:xfrm>
          <a:off x="71280" y="324000"/>
          <a:ext cx="10531800" cy="6656400"/>
        </p:xfrm>
        <a:graphic>
          <a:graphicData uri="http://schemas.openxmlformats.org/drawingml/2006/table">
            <a:tbl>
              <a:tblPr/>
              <a:tblGrid>
                <a:gridCol w="1098720"/>
                <a:gridCol w="1297080"/>
                <a:gridCol w="3311280"/>
                <a:gridCol w="482472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851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акже в п. 5.2 говорится, что результаты измерений в большинстве метрологических ситуаций характеризуются неопределенностью, но при этом в п. А.2 к результатам измерений применяется целый список понятий, связанных с погрешностью. Список погрешностей из п. А.2 также противоречит определению по п. 4.1, в соответствии с которым результаты измерений представляют с помощью измеренного значения величины и соответствующего показателя точности, а не с указанием погрешност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рмины, приведенные в п. А.2, разделены на смысловые группы: соответствующие определению погрешности; другие понятия, связанные с погрешностями и понятия, связанные с неопределенностью измерений. Они соответствуют РМГ 29 (раздел 5 «Результаты измерений»), и связаны с понятием «результат измерения», но это не значит, что все они используются для представления результата измерения; проект РМГ не содержит подобного утверждения.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оответственно, «список погрешностей из п. А.2» не может противоречить «определению по п. 4.1» (В п. 4.1 дано определение термина «результат (измерения величины)» и в качестве примера, в строгом соответствии с РМГ 29, приведены показатели точности, которые могут быть использованы вместе с измеренным значением для представления результата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809A3-B890-4DC1-994D-8484A5476967}"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6" name=""/>
          <p:cNvGraphicFramePr/>
          <p:nvPr/>
        </p:nvGraphicFramePr>
        <p:xfrm>
          <a:off x="71280" y="324000"/>
          <a:ext cx="10531800" cy="6413400"/>
        </p:xfrm>
        <a:graphic>
          <a:graphicData uri="http://schemas.openxmlformats.org/drawingml/2006/table">
            <a:tbl>
              <a:tblPr/>
              <a:tblGrid>
                <a:gridCol w="1098720"/>
                <a:gridCol w="1297080"/>
                <a:gridCol w="3311280"/>
                <a:gridCol w="482472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608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5</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п. 5.1.2, 5.1.3, в пунктах приводится информация о выполнении измерений с помощью эталонов, а речь идет только о неопределенности измерений, но в п. А.4 снова появляется целый список понятий, связанных с погрешностью измерений. Более того понятия из п. А.4.1 отсутствуют в ГОСТ 8.381-80 «Государственная система обеспечения единства измерений. Эталоны. Способы выражения погрешностей». Если же обратиться к определению «метрологической прослеживаемости» по VIM3 (п.2.41), то оно не предусматривает вообще использования и тем более оценивания понятия погрешност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казателями точности в виде неопределенности измерений, используемыми в конкретных процедурах, указанных в п.п. 6.1.2, 6.1.3 (бывшие п.п.5.1.2 и 5.1.3 в первой редакции проекта РМГ),  не ограничивается круг понятий, связанных с метрологической прослеживаемостью вообще.</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Данные понятия приведены в п. А.4 и соответствуют РМГ 29 и (или)  ГОСТ 8.381-80. При этом п. А.4.1 содержит только термины из РМГ 29; вполне естественно, что они могут отсутствовать в ГОСТ 8.381-80, термины из которого приведены в п.п. А.4.2 и А.4.3 (см. примечание к п. А.4.3).</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ункт 4.1 дополнен комментарием о рассмотрении  вопросов метрологической прослеживаемости в  VIM 3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3CAF6-2F6E-4374-8FEB-A3122CC4DA73}"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28" name=""/>
          <p:cNvGraphicFramePr/>
          <p:nvPr/>
        </p:nvGraphicFramePr>
        <p:xfrm>
          <a:off x="71280" y="108000"/>
          <a:ext cx="10531800" cy="6705720"/>
        </p:xfrm>
        <a:graphic>
          <a:graphicData uri="http://schemas.openxmlformats.org/drawingml/2006/table">
            <a:tbl>
              <a:tblPr/>
              <a:tblGrid>
                <a:gridCol w="1098720"/>
                <a:gridCol w="1297080"/>
                <a:gridCol w="4608360"/>
                <a:gridCol w="352764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900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ложе-ние Б</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на каком основании в проекте РМГ коэффициент охвата выбирается в зависимости от требований к достоверности поверки из диапазона от 1,5 до 1. Такое положение противоречит концепции неопределенности в соответствии с GUM, где сказано, что значение коэффициента охвата выбирается на основании уровня доверия и обычно бывает в диапазоне от 2 до 3 (ISO/IEC Guide 98-3:2008/Suppl. 2:2011 «Неопределенность измерения. Часть 3. Руководство по выражению неопределенности измерения (GUM:1995). Дополнение 2. Расширение на любое количество выходных величин», п. 6.3.1). Более того ситуация, описанная в Приложении Б, в настоящее время подробнейшим образом рассматривается в международном документе JCGM 106:2012 «Оценивание данных измерений – Роль неопределенности измерений при оценке соответств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приложение Б внесены изменения с учетом положений документа JCGM 106:2012 «Оценивание данных измерений – Роль неопределенности измерений при оценке соответствия»; данный документ добавлен также в раздел «Библиография».</a:t>
                      </a:r>
                      <a:endParaRPr b="1"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В JC</a:t>
                      </a:r>
                      <a:r>
                        <a:rPr b="1" lang="en-US" sz="1600" spc="-1" strike="noStrike">
                          <a:solidFill>
                            <a:srgbClr val="000000"/>
                          </a:solidFill>
                          <a:latin typeface="Times New Roman"/>
                          <a:ea typeface="Times New Roman"/>
                        </a:rPr>
                        <a:t>G</a:t>
                      </a:r>
                      <a:r>
                        <a:rPr b="1" lang="ru-RU" sz="1600" spc="-1" strike="noStrike">
                          <a:solidFill>
                            <a:srgbClr val="000000"/>
                          </a:solidFill>
                          <a:latin typeface="Times New Roman"/>
                          <a:ea typeface="Times New Roman"/>
                        </a:rPr>
                        <a:t>M 106  (Раздел 8) в качестве показателя достоверности поверки принята максимальная «вероятность принятия несоответствующего объекта». Приводится очевидный пример: «вероятность принятия несоответствующего объекта равна 50 % ... если измеренное значение свойства лежит очень близко к допускаемому пределу» если используется «простое правило принят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CC965-6A17-4738-9496-D20738F4E591}"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30" name=""/>
          <p:cNvGraphicFramePr/>
          <p:nvPr/>
        </p:nvGraphicFramePr>
        <p:xfrm>
          <a:off x="71280" y="324000"/>
          <a:ext cx="10531800" cy="6119640"/>
        </p:xfrm>
        <a:graphic>
          <a:graphicData uri="http://schemas.openxmlformats.org/drawingml/2006/table">
            <a:tbl>
              <a:tblPr/>
              <a:tblGrid>
                <a:gridCol w="1098720"/>
                <a:gridCol w="1297080"/>
                <a:gridCol w="4608360"/>
                <a:gridCol w="3527640"/>
              </a:tblGrid>
              <a:tr h="8046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315040">
                <a:tc gridSpan="4">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Следует заметить, что для большинства действующих методик поверки, независимо от соотношения между точностью эталона и поверяемого СИ, достоверность поверки в этом смысле равна 50 %. То есть оптимизация методик поверки по данному критерию достоверности поверки не нашла применения на практике, за исключением особо ответственных случаев. В основном это связано с тем, что попытки построить методики поверки, обеспечивающие достоверность по вышеприведенному критерию хотя бы на уровне 95 % приводят к неоправданно высокому количеству забракованных СИ, в то же время очевидно, что принятые по простому решающему правилу СИ будут вполне работоспособны, но в отдельных случаях будут иметь погрешность, близкую к сумме пределов погрешности поверяемого СИ и эталона. Поэтому в ряде работ под достоверностью поверки предложено считать условную вероятность того, что СИ является метрологически неисправным  (то есть его погрешность превышает нормированный предел погрешности - допустимый предел) при условии, что оно признано в результате поверки годным (на множестве поверенных СИ). Оценка такой вероятности сопряжена с необходимостью знать распределение погрешностей множества СИ, поступающих на поверку, поэтому до настоящего времени не находило широкого применения.  Методы статистического имитационного моделирования позволили оценить соответствующие распределения в условиях действующих поверочных схем и дать рекомендации по ширине защитной полосы, обеспечивающей такую же достоверность поверки (в вышеприведенном смысле) для малых отношений точности поверяемого СИ к точности эталона, как и поверка по простому решающему правилу с трехкратным запасом точности эталона по отношению к поверяемому СИ</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8BE3D-BF1A-4606-8722-16FE63EA69D3}"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32" name=""/>
          <p:cNvGraphicFramePr/>
          <p:nvPr/>
        </p:nvGraphicFramePr>
        <p:xfrm>
          <a:off x="90360" y="468360"/>
          <a:ext cx="10531440" cy="4143240"/>
        </p:xfrm>
        <a:graphic>
          <a:graphicData uri="http://schemas.openxmlformats.org/drawingml/2006/table">
            <a:tbl>
              <a:tblPr/>
              <a:tblGrid>
                <a:gridCol w="1185840"/>
                <a:gridCol w="2414880"/>
                <a:gridCol w="4626000"/>
                <a:gridCol w="230472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16459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целом по проекту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О «Национальный институт  стандартов»</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Армения</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Замечания и предложения к проекту стандарта отсутствуют</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05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872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 целом по проекту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Минэкономразвития Украины</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Воздержаться.</a:t>
                      </a:r>
                      <a:endParaRPr b="1"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краина не заинтересована в применении данного стандарта</a:t>
                      </a:r>
                      <a:endParaRPr b="1" lang="en-US" sz="18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7CEA-243E-46F6-A289-5872EAEA6D06}"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34" name="Номер слайда 3"/>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EA8A1-CA71-4F69-8CDE-2991CAFDA3EA}" type="slidenum">
              <a:rPr b="0" lang="ru-RU" sz="1500" spc="-1" strike="noStrike">
                <a:solidFill>
                  <a:srgbClr val="000000"/>
                </a:solidFill>
                <a:latin typeface="Times New Roman"/>
                <a:ea typeface="Times New Roman"/>
              </a:rPr>
              <a:t>&lt;number&gt;</a:t>
            </a:fld>
            <a:endParaRPr b="1" lang="en-US" sz="1500" spc="-1" strike="noStrike">
              <a:solidFill>
                <a:srgbClr val="000000"/>
              </a:solidFill>
              <a:latin typeface="Times New Roman"/>
            </a:endParaRPr>
          </a:p>
        </p:txBody>
      </p:sp>
      <p:sp>
        <p:nvSpPr>
          <p:cNvPr id="135" name="PlaceHolder 1"/>
          <p:cNvSpPr>
            <a:spLocks noGrp="1"/>
          </p:cNvSpPr>
          <p:nvPr>
            <p:ph type="title"/>
          </p:nvPr>
        </p:nvSpPr>
        <p:spPr>
          <a:xfrm>
            <a:off x="619200" y="2592000"/>
            <a:ext cx="9623520" cy="1260360"/>
          </a:xfrm>
          <a:prstGeom prst="rect">
            <a:avLst/>
          </a:prstGeom>
          <a:solidFill>
            <a:srgbClr val="bbe0e3"/>
          </a:solidFill>
          <a:ln w="9360">
            <a:solidFill>
              <a:srgbClr val="000000"/>
            </a:solidFill>
            <a:miter/>
          </a:ln>
        </p:spPr>
        <p:txBody>
          <a:bodyPr lIns="99720" rIns="99720" tIns="49680" bIns="49680" anchor="ctr">
            <a:noAutofit/>
          </a:bodyPr>
          <a:p>
            <a:pPr indent="0" algn="ctr">
              <a:buNone/>
              <a:tabLst>
                <a:tab algn="l" pos="0"/>
                <a:tab algn="l" pos="995400"/>
                <a:tab algn="l" pos="1990800"/>
                <a:tab algn="l" pos="2986200"/>
                <a:tab algn="l" pos="3981600"/>
                <a:tab algn="l" pos="4976640"/>
                <a:tab algn="l" pos="5972040"/>
                <a:tab algn="l" pos="6967440"/>
                <a:tab algn="l" pos="7962840"/>
                <a:tab algn="l" pos="8958240"/>
                <a:tab algn="l" pos="9953640"/>
                <a:tab algn="l" pos="10949040"/>
              </a:tabLst>
            </a:pPr>
            <a:r>
              <a:rPr b="1" lang="ru-RU" sz="3600" spc="-1" strike="noStrike">
                <a:solidFill>
                  <a:srgbClr val="000000"/>
                </a:solidFill>
                <a:latin typeface="Times New Roman"/>
              </a:rPr>
              <a:t>Благодарю за внимание !</a:t>
            </a:r>
            <a:endParaRPr b="0" lang="en-US" sz="3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108F6-3F7B-4436-BC94-68A8F0A3DD97}"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99"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D33F7-11F9-4DF1-A118-036AC94CCF04}"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0" name="Rectangle 3"/>
          <p:cNvSpPr/>
          <p:nvPr/>
        </p:nvSpPr>
        <p:spPr>
          <a:xfrm>
            <a:off x="306360" y="16200"/>
            <a:ext cx="9936360" cy="7102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снование для разработки</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роект рекомендаций по межгосударственной  стандартизации разработан ФГУП «ВНИИФТРИ» в соответствии с Программой межгосударственной стандартизации на 2016-2018 гг. по тематике МТК </a:t>
            </a:r>
            <a:r>
              <a:rPr b="1" lang="ru-RU" sz="2800" spc="-1" strike="noStrike">
                <a:solidFill>
                  <a:srgbClr val="000000"/>
                </a:solidFill>
                <a:latin typeface="Times New Roman"/>
              </a:rPr>
              <a:t>	</a:t>
            </a:r>
            <a:r>
              <a:rPr b="1" lang="ru-RU" sz="2800" spc="-1" strike="noStrike">
                <a:solidFill>
                  <a:srgbClr val="000000"/>
                </a:solidFill>
                <a:latin typeface="Times New Roman"/>
              </a:rPr>
              <a:t>53 «Общие нормы и правила по обеспечению единства измерений» (тема № </a:t>
            </a:r>
            <a:r>
              <a:rPr b="1" lang="en-US" sz="2800" spc="-1" strike="noStrike">
                <a:solidFill>
                  <a:srgbClr val="000000"/>
                </a:solidFill>
                <a:latin typeface="Times New Roman"/>
              </a:rPr>
              <a:t>RU.3.001-2016</a:t>
            </a:r>
            <a:r>
              <a:rPr b="1" lang="ru-RU" sz="2800" spc="-1" strike="noStrike">
                <a:solidFill>
                  <a:srgbClr val="000000"/>
                </a:solidFill>
                <a:latin typeface="Times New Roman"/>
              </a:rPr>
              <a:t>, шифр темы по программе национальной стандартизации 3.17.053-2.002.16).</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Настоящий проект рекомендаций разработан взамен </a:t>
            </a:r>
            <a:br>
              <a:rPr sz="2800"/>
            </a:br>
            <a:r>
              <a:rPr b="1" lang="ru-RU" sz="2800" spc="-1" strike="noStrike">
                <a:solidFill>
                  <a:srgbClr val="000000"/>
                </a:solidFill>
                <a:latin typeface="Times New Roman"/>
              </a:rPr>
              <a:t>РМГ 91-2009 «Государственная система обеспечения единства измерений. Совместное использование понятий «погрешность измерения» и «неопределенность измерения». Общие принципы»</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6B3A0-E106-4D72-A96F-EA1A1ADCD4E0}"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2" name="Прямоугольник 2"/>
          <p:cNvSpPr/>
          <p:nvPr/>
        </p:nvSpPr>
        <p:spPr>
          <a:xfrm>
            <a:off x="306360" y="108000"/>
            <a:ext cx="10080720" cy="734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Times New Roman"/>
              </a:rPr>
              <a:t>Обоснование необходимости разработки рекомендаций по межгосударственной  стандартизации</a:t>
            </a:r>
            <a:endParaRPr b="1"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Пересмотр РМГ 91-2009 обусловлен существенными изменениями, произошедшими в основополагающих нормативных документах в области обеспечения единства измерений, и прежде всего в РМГ 29-2013 по сравнению с предыдущей редакцией данного документа 99-го года.</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В РМГ 29−2013, в ряде других документов пересмотрены определения многих терминов, являющихся предметом рассмотрения РМГ 91 («результат измерения», «погрешность измерения» и др.); появились новые понятия, в том числе и связанные с неопределенностью измерений (при сохранении понятий в терминах характеристик погрешности, использовавшихся ранее, до разработки концепции неопределенности, в качестве показателей точности результатов измерений.</a:t>
            </a:r>
            <a:endParaRPr b="1"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2C7F-C37B-46B0-80F8-CAFFD36FF3DC}"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4" name="Rectangle 3"/>
          <p:cNvSpPr/>
          <p:nvPr/>
        </p:nvSpPr>
        <p:spPr>
          <a:xfrm>
            <a:off x="666720" y="2570400"/>
            <a:ext cx="9576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05" name="Прямоугольник 4"/>
          <p:cNvSpPr/>
          <p:nvPr/>
        </p:nvSpPr>
        <p:spPr>
          <a:xfrm>
            <a:off x="233280" y="324000"/>
            <a:ext cx="10226880" cy="7346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роме того применение РМГ 91 показало необходимость дополнения их классификацией ряда метрологических понятий, в которых используются ключевые слова «погрешность» (многие из них при этом не являются погрешностями, но в документах некорректно называются погрешностью) и «неопределенность», представляющих собой прежде всего некие статистические и вероятностные оценки параметров результатов измерений (как в терминах  характеристик погрешности, так и в терминах концепции неопределенности измерений) на предмет их соотношения с собственно понятием «погрешность», во избежание неправильного использования этих понятий в различных метрологических ситуациях.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акже в рекомендациях необходимо обновить нормативные и библиографические ссылки. </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DD74-3535-49D1-8460-0E000F93CAE5}"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7" name="Прямоугольник 3"/>
          <p:cNvSpPr/>
          <p:nvPr/>
        </p:nvSpPr>
        <p:spPr>
          <a:xfrm>
            <a:off x="233280" y="-36360"/>
            <a:ext cx="10226880" cy="730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раткая характеристика проекта РМГ 91</a:t>
            </a:r>
            <a:endParaRPr b="1"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В настоящем проекте документа применены  термины и соответствующие им определения в соответствии с РМГ 29. </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Уточнен смысл основных понятий «погрешность измерения», «неопределенность измерения», производных от них терминов и даны необходимые пояснения. Также рассмотрены вопросы, связанные с отличиями в формулировках терминов или соответствующих им определений по РМГ 29 от терминов и определений, приведённых в Международном словаре по метрологии и Руководстве ИСО/МЭК </a:t>
            </a:r>
            <a:br>
              <a:rPr sz="2400"/>
            </a:br>
            <a:r>
              <a:rPr b="1" lang="ru-RU" sz="2400" spc="-1" strike="noStrike">
                <a:solidFill>
                  <a:srgbClr val="000000"/>
                </a:solidFill>
                <a:latin typeface="Times New Roman"/>
              </a:rPr>
              <a:t>98-3:2008 «Неопределенность измерения. Часть 3. Руководство по выражению неопределенности измерения».</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Даны рекомендации по логически непротиворечивому совместному применению этих понятий в различных метрологических задачах, включая рекомендации по использованию неопределенности измерений в качестве показателей точности результатов измерений, получаемых по методикам измерений, разрабатываемым по ГОСТ 8.010.</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оведена классификация понятий и терминов, связанных с ключевыми словами «погрешность» и «неопределенность», на предмет их соотношения с понятием «погрешность».</a:t>
            </a:r>
            <a:endParaRPr b="1"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Обновлены нормативные и библиографические ссылки.</a:t>
            </a:r>
            <a:endParaRPr b="1"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52C2-D92D-4E21-AFBB-D6B351B51EB3}"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sp>
        <p:nvSpPr>
          <p:cNvPr id="109" name="Прямоугольник 3"/>
          <p:cNvSpPr/>
          <p:nvPr/>
        </p:nvSpPr>
        <p:spPr>
          <a:xfrm>
            <a:off x="162000" y="-36360"/>
            <a:ext cx="1029816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Times New Roman"/>
              </a:rPr>
              <a:t>Проект</a:t>
            </a:r>
            <a:r>
              <a:rPr b="1" lang="ru-RU" sz="2000" spc="-1" strike="noStrike">
                <a:solidFill>
                  <a:srgbClr val="000000"/>
                </a:solidFill>
                <a:latin typeface="Times New Roman"/>
              </a:rPr>
              <a:t> сводки отзывов</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 </a:t>
            </a:r>
            <a:r>
              <a:rPr b="1" lang="ru-RU" sz="2000" spc="-1" strike="noStrike">
                <a:solidFill>
                  <a:srgbClr val="000000"/>
                </a:solidFill>
                <a:latin typeface="Times New Roman"/>
              </a:rPr>
              <a:t>на первую редакцию проекта рекомендаций по межгосударственной стандартизации </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ГСИ. Совместное использование понятий «погрешность измерения» и «неопределенность измерения». Общие принципы»</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rPr>
              <a:t>(пересмотр РМГ 91-2009)</a:t>
            </a:r>
            <a:endParaRPr b="1" lang="en-US" sz="2000" spc="-1" strike="noStrike">
              <a:solidFill>
                <a:srgbClr val="000000"/>
              </a:solidFill>
              <a:latin typeface="Times New Roman"/>
            </a:endParaRPr>
          </a:p>
        </p:txBody>
      </p:sp>
      <p:graphicFrame>
        <p:nvGraphicFramePr>
          <p:cNvPr id="110" name=""/>
          <p:cNvGraphicFramePr/>
          <p:nvPr/>
        </p:nvGraphicFramePr>
        <p:xfrm>
          <a:off x="71280" y="1620720"/>
          <a:ext cx="10531800" cy="5926320"/>
        </p:xfrm>
        <a:graphic>
          <a:graphicData uri="http://schemas.openxmlformats.org/drawingml/2006/table">
            <a:tbl>
              <a:tblPr/>
              <a:tblGrid>
                <a:gridCol w="1098720"/>
                <a:gridCol w="1297080"/>
                <a:gridCol w="2592360"/>
                <a:gridCol w="5543640"/>
              </a:tblGrid>
              <a:tr h="7545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171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целом по</a:t>
                      </a:r>
                      <a:br>
                        <a:rPr sz="1600"/>
                      </a:br>
                      <a:r>
                        <a:rPr b="1" lang="ru-RU" sz="1600" spc="-1" strike="noStrike">
                          <a:solidFill>
                            <a:srgbClr val="000000"/>
                          </a:solidFill>
                          <a:latin typeface="Times New Roman"/>
                        </a:rPr>
                        <a:t>стандарту</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считаем, что документ практически не применим, пока в нем не будут приведены примеры учета погрешности в расчете неопределенности и, наоборот, на примере поверки и калибровки конкретных приборов.</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1" lang="en-US" sz="12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Учтено</a:t>
                      </a:r>
                      <a:r>
                        <a:rPr b="1" lang="ru-RU" sz="1600" spc="-1" strike="noStrike">
                          <a:solidFill>
                            <a:srgbClr val="000000"/>
                          </a:solidFill>
                          <a:latin typeface="Times New Roman"/>
                        </a:rPr>
                        <a:t>. Руководство по выражению неопределенности (</a:t>
                      </a:r>
                      <a:r>
                        <a:rPr b="1" lang="en-US" sz="1600" spc="-1" strike="noStrike">
                          <a:solidFill>
                            <a:srgbClr val="000000"/>
                          </a:solidFill>
                          <a:latin typeface="Times New Roman"/>
                        </a:rPr>
                        <a:t>GUM</a:t>
                      </a:r>
                      <a:r>
                        <a:rPr b="1" lang="ru-RU" sz="1600" spc="-1" strike="noStrike">
                          <a:solidFill>
                            <a:srgbClr val="000000"/>
                          </a:solidFill>
                          <a:latin typeface="Times New Roman"/>
                        </a:rPr>
                        <a:t>) не рекомендует учитывать погрешность в расчете неопределенности. </a:t>
                      </a:r>
                      <a:r>
                        <a:rPr b="1" lang="en-US" sz="1600" spc="-1" strike="noStrike">
                          <a:solidFill>
                            <a:srgbClr val="000000"/>
                          </a:solidFill>
                          <a:latin typeface="Times New Roman"/>
                        </a:rPr>
                        <a:t>GUM</a:t>
                      </a:r>
                      <a:r>
                        <a:rPr b="1" lang="ru-RU" sz="1600" spc="-1" strike="noStrike">
                          <a:solidFill>
                            <a:srgbClr val="000000"/>
                          </a:solidFill>
                          <a:latin typeface="Times New Roman"/>
                        </a:rPr>
                        <a:t> рекомендует уменьшать случайную погрешность, увеличивая число наблюдений, а оставшуюся систематическую погрешность (систематические эффекты) исключать введением поправки. После того, как введены поправки на все значимые систематические эффекты, рассчитывается суммарная стандартная или расширенная неопределенность (</a:t>
                      </a:r>
                      <a:r>
                        <a:rPr b="1" lang="en-US" sz="1600" spc="-1" strike="noStrike">
                          <a:solidFill>
                            <a:srgbClr val="000000"/>
                          </a:solidFill>
                          <a:latin typeface="Times New Roman"/>
                        </a:rPr>
                        <a:t>GUM</a:t>
                      </a:r>
                      <a:r>
                        <a:rPr b="1" lang="ru-RU" sz="1600" spc="-1" strike="noStrike">
                          <a:solidFill>
                            <a:srgbClr val="000000"/>
                          </a:solidFill>
                          <a:latin typeface="Times New Roman"/>
                        </a:rPr>
                        <a:t>, раздел 3). Действий по учету погрешности (систематических эффектов) через увеличение неопределенности «следует избегать» (</a:t>
                      </a:r>
                      <a:r>
                        <a:rPr b="1" lang="en-US" sz="1600" spc="-1" strike="noStrike">
                          <a:solidFill>
                            <a:srgbClr val="000000"/>
                          </a:solidFill>
                          <a:latin typeface="Times New Roman"/>
                        </a:rPr>
                        <a:t>GUM</a:t>
                      </a:r>
                      <a:r>
                        <a:rPr b="1" lang="ru-RU" sz="1600" spc="-1" strike="noStrike">
                          <a:solidFill>
                            <a:srgbClr val="000000"/>
                          </a:solidFill>
                          <a:latin typeface="Times New Roman"/>
                        </a:rPr>
                        <a:t>, п. 6.3.1, примечание). Примеры расчета неопределенности измерений приведены в </a:t>
                      </a:r>
                      <a:r>
                        <a:rPr b="1" lang="en-US" sz="1600" spc="-1" strike="noStrike">
                          <a:solidFill>
                            <a:srgbClr val="000000"/>
                          </a:solidFill>
                          <a:latin typeface="Times New Roman"/>
                        </a:rPr>
                        <a:t>GUM</a:t>
                      </a:r>
                      <a:r>
                        <a:rPr b="1" lang="ru-RU"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Что касается учета неопределенности в «расчете» погрешности, то это невозможно исходя из определения погрешности: «разность между измеренным значением величины и опорным значением величины» (РМГ 29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5.16). Рассчитывать можно некие границы погрешности, если она неизвестна.</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F2B66-8AF9-4123-A7DC-CBA71629C848}"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2" name=""/>
          <p:cNvGraphicFramePr/>
          <p:nvPr/>
        </p:nvGraphicFramePr>
        <p:xfrm>
          <a:off x="90360" y="160200"/>
          <a:ext cx="10531440" cy="7388280"/>
        </p:xfrm>
        <a:graphic>
          <a:graphicData uri="http://schemas.openxmlformats.org/drawingml/2006/table">
            <a:tbl>
              <a:tblPr/>
              <a:tblGrid>
                <a:gridCol w="1079640"/>
                <a:gridCol w="1293840"/>
                <a:gridCol w="4898880"/>
                <a:gridCol w="325908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70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всему тексту проекта РМГ следует привести к одинаковой форме и затем использовать в этой принятой форме следующие термины: «результат измерения» и «результат измерений», «погрешность результата измерения» и «погрешность измерений» и «погрешность измерения», «неопределенность измерения» и «неопределенность измерений»</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r>
                        <a:rPr b="1" lang="ru-RU" sz="1600" spc="-1" strike="noStrike">
                          <a:solidFill>
                            <a:srgbClr val="000000"/>
                          </a:solidFill>
                          <a:latin typeface="Times New Roman"/>
                        </a:rPr>
                        <a:t>.</a:t>
                      </a:r>
                      <a:r>
                        <a:rPr b="0" lang="ru-RU" sz="1600" spc="-1" strike="noStrike">
                          <a:solidFill>
                            <a:srgbClr val="000000"/>
                          </a:solidFill>
                          <a:latin typeface="Times New Roman"/>
                        </a:rPr>
                        <a:t>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о всему тексту проекта РМГ используется единый термин «результат измерения». </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ведены комментарии  к статьям 4.3 «погрешность (результата измерения)» и 4.6 «неопределенность (измерений)» (в первой редакции проекта РМГ номера данных статей: 4.2 и 4.5), в соответствии с которыми используются принятые формы данных терминов</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413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целом по</a:t>
                      </a:r>
                      <a:br>
                        <a:rPr sz="1600"/>
                      </a:br>
                      <a:r>
                        <a:rPr b="1" lang="ru-RU" sz="1600" spc="-1" strike="noStrike">
                          <a:solidFill>
                            <a:srgbClr val="000000"/>
                          </a:solidFill>
                          <a:latin typeface="Times New Roman"/>
                        </a:rPr>
                        <a:t>стандарту</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точнить, наименование РМГ не соответствует его содержанию, так о совместном использовании понятий «погрешность измерения» и «неопределенность измерения» говорится только в Приложении Б, где они действительно вместе используются для решения определенной задачи, во всех остальных разделах просто показано, как в конкретных метрологических задачах следует использовать перечисленные в РМГ понятия, т. е. речь идет о простом их использовании на практике. В связи с этим считаем целесообразным изменить наименование на «Использование понятий «погрешность измерения» и «неопределенность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именование проекта рекомендаций изменено на «Использование понятий «погрешность измерения» и «неопределенность измерения». Общие принципы»</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881B7-63F1-4CCC-9FA1-7BB1EE3DAA5F}"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4" name=""/>
          <p:cNvGraphicFramePr/>
          <p:nvPr/>
        </p:nvGraphicFramePr>
        <p:xfrm>
          <a:off x="90360" y="160200"/>
          <a:ext cx="10531440" cy="7875720"/>
        </p:xfrm>
        <a:graphic>
          <a:graphicData uri="http://schemas.openxmlformats.org/drawingml/2006/table">
            <a:tbl>
              <a:tblPr/>
              <a:tblGrid>
                <a:gridCol w="1079640"/>
                <a:gridCol w="1293840"/>
                <a:gridCol w="4035240"/>
                <a:gridCol w="412272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a:t>
                      </a:r>
                      <a:endParaRPr b="1"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683080">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аздел 4</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осстандарт</a:t>
                      </a:r>
                      <a:br>
                        <a:rPr sz="1600"/>
                      </a:br>
                      <a:r>
                        <a:rPr b="1" lang="ru-RU" sz="1600" spc="-1" strike="noStrike">
                          <a:solidFill>
                            <a:srgbClr val="000000"/>
                          </a:solidFill>
                          <a:latin typeface="Times New Roman"/>
                        </a:rPr>
                        <a:t>Республики Беларусь</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Рекомендуем сами термины, приведенные в разделе, привести к принятой на международном уровне терминологии (в РМГ 29-2013 «ГСИ. Метрология. Основные термины и определения»), а именно:</a:t>
                      </a:r>
                      <a:endParaRPr b="1"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 </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r>
                        <a:rPr b="1" lang="ru-RU" sz="1600" spc="-1" strike="noStrike">
                          <a:solidFill>
                            <a:srgbClr val="000000"/>
                          </a:solidFill>
                          <a:latin typeface="Times New Roman"/>
                        </a:rPr>
                        <a:t>. Термины, приведенные в разделе 4 «Основные термины, определения и комментарии к ним» проекта документа, соответствуют Рекомендациям по межгосударственной стандартизации РМГ 29-2013. Для случаев отличия данных терминов и (или) соответствующих им определений от формулировок VIM3 текст рекомендаций дополнен комментариями с соответствующими разъяснениям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38768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1, примечание 2 «Результат измерения может быть представлен измеренным значением величины с указанием соответствующего показателя точности», в то же время в Примечании 2 к термину «результат измерения» в VIM3 (п. 2.9) сказано, что «как правило, результат измерения выражается одним измеренным значением величины и неопределенностью измерений». По нашему мнению такая замена понятий, хоть и в примечаниях, приводит к дальнейшей неразберихе в представлении результатов измерений. Получается, что никакие другие показатели, кроме неопределенности, в международной практике не используются для представления результатов измерений. А в проекте РМГ говорится, что показателями точности могут быть в том числе «доверительные границы погрешности», что приводит не только к несоответствию международным правилам, но и к дальнейшей путанице, связанной с термином «погрешность». В данной ситуации можно порекомендовать привести определение понятия «точность», а затем на его основе строить дальнейшие выводы и комментарии</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веден комментарий к статье 4.1, касающийся определения термина «результат измерения» в соответствии с </a:t>
                      </a:r>
                      <a:r>
                        <a:rPr b="1" lang="en-US" sz="1600" spc="-1" strike="noStrike">
                          <a:solidFill>
                            <a:srgbClr val="000000"/>
                          </a:solidFill>
                          <a:latin typeface="Times New Roman"/>
                        </a:rPr>
                        <a:t>VIM</a:t>
                      </a:r>
                      <a:r>
                        <a:rPr b="1" lang="ru-RU" sz="1600" spc="-1" strike="noStrike">
                          <a:solidFill>
                            <a:srgbClr val="000000"/>
                          </a:solidFill>
                          <a:latin typeface="Times New Roman"/>
                        </a:rPr>
                        <a:t>3 и рекомендации VIM3 выражать результат измерения, как правило, «одним измеренным значением величины и неопределенностью измерений».</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екст проекта РМГ дополнен статьей 4.2 «Точность измерений» с соответствующими комментариями, а также разделом 5 «О соотношении понятий «погрешность», «неопределенность» и «точность измерений»</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омер слайда 1"/>
          <p:cNvSpPr/>
          <p:nvPr/>
        </p:nvSpPr>
        <p:spPr>
          <a:xfrm>
            <a:off x="7662960" y="6885000"/>
            <a:ext cx="2495520" cy="525600"/>
          </a:xfrm>
          <a:prstGeom prst="rect">
            <a:avLst/>
          </a:prstGeom>
          <a:noFill/>
          <a:ln w="0">
            <a:noFill/>
          </a:ln>
        </p:spPr>
        <p:style>
          <a:lnRef idx="0"/>
          <a:fillRef idx="0"/>
          <a:effectRef idx="0"/>
          <a:fontRef idx="minor"/>
        </p:style>
        <p:txBody>
          <a:bodyPr lIns="99720" rIns="99720" tIns="49680" bIns="496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5FB65-862C-44FD-89E4-FB6A5E5802D8}" type="slidenum">
              <a:rPr b="0" lang="ru-RU" sz="1500" spc="-1" strike="noStrike">
                <a:solidFill>
                  <a:srgbClr val="000000"/>
                </a:solidFill>
                <a:latin typeface="Times New Roman"/>
              </a:rPr>
              <a:t>&lt;number&gt;</a:t>
            </a:fld>
            <a:endParaRPr b="1" lang="en-US" sz="1500" spc="-1" strike="noStrike">
              <a:solidFill>
                <a:srgbClr val="000000"/>
              </a:solidFill>
              <a:latin typeface="Times New Roman"/>
            </a:endParaRPr>
          </a:p>
        </p:txBody>
      </p:sp>
      <p:graphicFrame>
        <p:nvGraphicFramePr>
          <p:cNvPr id="116" name=""/>
          <p:cNvGraphicFramePr/>
          <p:nvPr/>
        </p:nvGraphicFramePr>
        <p:xfrm>
          <a:off x="90360" y="160200"/>
          <a:ext cx="10531440" cy="7388280"/>
        </p:xfrm>
        <a:graphic>
          <a:graphicData uri="http://schemas.openxmlformats.org/drawingml/2006/table">
            <a:tbl>
              <a:tblPr/>
              <a:tblGrid>
                <a:gridCol w="1185840"/>
                <a:gridCol w="1187640"/>
                <a:gridCol w="5403960"/>
                <a:gridCol w="2754000"/>
              </a:tblGrid>
              <a:tr h="804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труктурный</a:t>
                      </a:r>
                      <a:br>
                        <a:rPr sz="1200"/>
                      </a:br>
                      <a:r>
                        <a:rPr b="1" lang="ru-RU" sz="1200" spc="-1" strike="noStrike">
                          <a:solidFill>
                            <a:srgbClr val="000000"/>
                          </a:solidFill>
                          <a:latin typeface="Times New Roman"/>
                        </a:rPr>
                        <a:t>элемент стандарт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Сокращенное</a:t>
                      </a:r>
                      <a:br>
                        <a:rPr sz="1200"/>
                      </a:br>
                      <a:r>
                        <a:rPr b="1" lang="ru-RU" sz="1200" spc="-1" strike="noStrike">
                          <a:solidFill>
                            <a:srgbClr val="000000"/>
                          </a:solidFill>
                          <a:latin typeface="Times New Roman"/>
                        </a:rPr>
                        <a:t>наименование</a:t>
                      </a:r>
                      <a:br>
                        <a:rPr sz="1200"/>
                      </a:br>
                      <a:r>
                        <a:rPr b="1" lang="ru-RU" sz="1200" spc="-1" strike="noStrike">
                          <a:solidFill>
                            <a:srgbClr val="000000"/>
                          </a:solidFill>
                          <a:latin typeface="Times New Roman"/>
                        </a:rPr>
                        <a:t>национального орган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редложение, замечание</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Заключение</a:t>
                      </a:r>
                      <a:br>
                        <a:rPr sz="1200"/>
                      </a:br>
                      <a:r>
                        <a:rPr b="1" lang="ru-RU" sz="1200" spc="-1" strike="noStrike">
                          <a:solidFill>
                            <a:srgbClr val="000000"/>
                          </a:solidFill>
                          <a:latin typeface="Times New Roman"/>
                        </a:rPr>
                        <a:t>разработчика</a:t>
                      </a:r>
                      <a:endParaRPr b="1" lang="en-US" sz="1200" spc="-1" strike="noStrike">
                        <a:solidFill>
                          <a:srgbClr val="000000"/>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1701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2 термин «погрешность (результата измерения)» трактуется в соответствии с VIM3, однако сам термин содержит слово «результат», чего нет в VIM3 (п. 2.16) и, что самое главное в самом проекте РМГ также в дальнейшем используется термин «погрешность измерения». В связи с этим уточнить, являются ли синонимами термины «погрешность результата измерения» и «погрешность измерения» и нужно ли на этих различиях пользователю заострять внимание</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комментарии к статье 4.3 (бывшая статья 4.2 в первой редакции) «погрешность (результата измерения)» приведено обоснование использования терминов «погрешность результата измерения», «погрешность измерения», а также «погрешность», являющихся синонимами, в тексте проекта РМГ</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413160">
                <a:tc gridSpan="3">
                  <a:txBody>
                    <a:bodyPr lIns="68760" rIns="6876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 4.4, определение термина «доверительные границы (погрешности измерения)», в соответствии с которым «доверительные границы (погрешности измерения) - верхняя и нижняя границы интервала, внутри которого с заданной вероятностью находится значение погрешности измерений», не соответствует комментариям, которые приводятся на стр. 5 и в которых говорится, что понятию «погрешность» нет оснований придавать смысл статистического параметра какого-либо </a:t>
                      </a:r>
                      <a:r>
                        <a:rPr b="1" i="1" lang="ru-RU" sz="1600" spc="-1" strike="noStrike">
                          <a:solidFill>
                            <a:srgbClr val="000000"/>
                          </a:solidFill>
                          <a:latin typeface="Times New Roman"/>
                        </a:rPr>
                        <a:t>множества реальных или предполагаемых значений</a:t>
                      </a:r>
                      <a:r>
                        <a:rPr b="1" lang="ru-RU" sz="1600" spc="-1" strike="noStrike">
                          <a:solidFill>
                            <a:srgbClr val="000000"/>
                          </a:solidFill>
                          <a:latin typeface="Times New Roman"/>
                        </a:rPr>
                        <a:t>. Возможно, авторы РМГ хотели подчеркнуть тот факт, о котором сказано в Примечании к п. 4.2, что погрешность может быть известна (если известно опорное значение) и может быть неизвестна (если в качестве опорного значения выступает неизвестное истинного значение величины). В этом случае для «известной» погрешности, получаемой, например, в ходе поверки или калибровки, может быть оценена неопределенность измерений, а для «неизвестной» при необходимости могут быть найдены доверительные границы</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00"/>
                          </a:solidFill>
                          <a:uFillTx/>
                          <a:latin typeface="Times New Roman"/>
                        </a:rPr>
                        <a:t>Принято.</a:t>
                      </a:r>
                      <a:endParaRPr b="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несены соответствующие изменения в комментарии к статье 4.3 (бывшая статья 4.2) в части возможности оценки неопределённости измерений для «известной» погрешности и нахождения доверительных границ для «неизвестной» погрешности измерения</a:t>
                      </a:r>
                      <a:endParaRPr b="1" lang="en-US" sz="1600" spc="-1" strike="noStrike">
                        <a:solidFill>
                          <a:srgbClr val="000000"/>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8T09:28:24Z</dcterms:created>
  <dc:creator>User</dc:creator>
  <dc:description/>
  <dc:language>en-US</dc:language>
  <cp:lastModifiedBy>Пользователь</cp:lastModifiedBy>
  <dcterms:modified xsi:type="dcterms:W3CDTF">2017-04-07T13:41:58Z</dcterms:modified>
  <cp:revision>420</cp:revision>
  <dc:subject/>
  <dc:title>Слайд 1</dc:title>
</cp:coreProperties>
</file>